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C22-6379-43BA-A178-B78EB367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C61-F0F6-4F49-A999-D79A1F6D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942-A643-444D-9E66-7C3C1725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872-1F3E-489E-B51A-2638519A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15E-A3E1-4A81-89AA-2343B4FC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5CB-1E36-413D-88AF-104795EA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25A-3641-4EB2-ABE3-2801A7F6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9FB-75ED-4182-B50F-3B615354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21E-DDDD-4DFA-ADF7-0E4D126D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D51-408E-4E6F-BFEF-0B36F74C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71B-DCC5-483F-9F93-199BFE60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CCD-F406-40E7-851B-1005466B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F8D6-6B3A-453B-AB40-300883AE7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qMjh1DhIhBM&amp;feature=relate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524880" y="-3001320"/>
            <a:ext cx="1144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2666880" y="990720"/>
            <a:ext cx="3810240" cy="441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90920" y="56386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tersforensicsblog.files.wordpress.com/200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0080"/>
                </a:solidFill>
                <a:uFillTx/>
                <a:latin typeface="Blue Ridge Heavy SF"/>
              </a:rPr>
              <a:t>Mary Shell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Born in 1797 in Great Bri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Her mother, Mary Wollstonecraft was outspoken about her liberal views, and wrote and published her most famous work, </a:t>
            </a:r>
            <a:r>
              <a:rPr b="0" i="1" lang="en-US" sz="2400" spc="-1" strike="noStrike">
                <a:solidFill>
                  <a:srgbClr val="99cc00"/>
                </a:solidFill>
                <a:latin typeface="Arial"/>
              </a:rPr>
              <a:t>A Vindication of the Rights of Women,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hedding light on the oppression of wo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Her father was the philosopher William Godwin.  Godwin is extremely left wing, he was a devout atheist and carried beliefs about open marriag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ary Shelley’s mother died 6 months after giving birth to Mary, and her father got remarried to Jane Clairmont, which produced a step sister for Mary named Cl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12193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A Brief B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3276360" cy="376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57800" y="1905120"/>
            <a:ext cx="3048120" cy="380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0" y="594360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thebsreport.files.wordpress.com/2009/08/percy_bysshe_shelley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5943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scienceblogs.com/clock/upload/2006/08/Mary%20Shelley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Blue Ridge Heavy SF"/>
              </a:rPr>
              <a:t>Biography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Unicode MS"/>
              </a:rPr>
              <a:t>Mary meets Percy Bysshe Shelley when she is 16, and he is already marr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Unicode MS"/>
              </a:rPr>
              <a:t>In the summer of 1816 Mary and Percy go to Geneva with Lord Byron, his physician Dr. Palidori and Mary’s step-sister Cl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Unicode MS"/>
              </a:rPr>
              <a:t>The summer was hardly a summer at all, the group was forced to spend much of their trip indoors due to poor wea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Unicode MS"/>
              </a:rPr>
              <a:t>One night’s events turned to the telling of ghost stories, they read from the German collection </a:t>
            </a:r>
            <a:r>
              <a:rPr b="0" i="1" lang="en-US" sz="2400" spc="-1" strike="noStrike">
                <a:solidFill>
                  <a:srgbClr val="99cc00"/>
                </a:solidFill>
                <a:latin typeface="Arial Unicode MS"/>
              </a:rPr>
              <a:t>Fantasmagoria</a:t>
            </a:r>
            <a:r>
              <a:rPr b="0" lang="en-US" sz="2400" spc="-1" strike="noStrike">
                <a:solidFill>
                  <a:srgbClr val="99cc00"/>
                </a:solidFill>
                <a:latin typeface="Arial Unicode MS"/>
              </a:rPr>
              <a:t> and made up their own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Unicode MS"/>
              </a:rPr>
              <a:t>From here, a competition was born, and all set out to write their own horrific t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Blue Ridge Heavy SF"/>
              </a:rPr>
              <a:t>Frankenstein is BO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42640" y="182844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After many days, the group began sharing their tales.  Byron wrote a short story “The Burial” which was published later as a postscript to a larger work of 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Percy Shelley wrote “The Assassins” which did not go on to any publis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It was Palidori, Byron’s physician, who wrote </a:t>
            </a:r>
            <a:r>
              <a:rPr b="0" i="1" lang="en-US" sz="1800" spc="-1" strike="noStrike">
                <a:solidFill>
                  <a:srgbClr val="99cc00"/>
                </a:solidFill>
                <a:latin typeface="Arial"/>
              </a:rPr>
              <a:t>The Vampyr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, the first vampire tale to be published and English, and it is speculated that it is the sole inspiration for Bram Stoker’s </a:t>
            </a:r>
            <a:r>
              <a:rPr b="0" i="1" lang="en-US" sz="1800" spc="-1" strike="noStrike">
                <a:solidFill>
                  <a:srgbClr val="99cc00"/>
                </a:solidFill>
                <a:latin typeface="Arial"/>
              </a:rPr>
              <a:t>Dracula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which was published 78 years lat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Mary Shelley had little to contribute until one night she had a nightmare that roused her from her sleep.  She wrote her dream into a short story, and her soon-to-be husband loved it so much, he encouraged her to write a nov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wo years later, Mary Shelley published </a:t>
            </a:r>
            <a:r>
              <a:rPr b="0" i="1" lang="en-US" sz="1800" spc="-1" strike="noStrike">
                <a:solidFill>
                  <a:srgbClr val="99cc00"/>
                </a:solidFill>
                <a:latin typeface="Arial"/>
              </a:rPr>
              <a:t>Frankenstein, Or the Modern Promethi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Blue Ridge Heavy SF"/>
              </a:rPr>
              <a:t>Why Does All of This Mat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68580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How might the background of an author effect or change the story he/she is wri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How might the circumstances in which an author begins a text ma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o you think this matters at all? What are the arguments against looking at an author before reading a nov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an you relate to Mary Shelle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Blue Ridge Heavy SF"/>
              </a:rPr>
              <a:t>Your very own Frankenste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hat makes something </a:t>
            </a:r>
            <a:r>
              <a:rPr b="0" i="1" lang="en-US" sz="3200" spc="-1" strike="noStrike">
                <a:solidFill>
                  <a:srgbClr val="99cc00"/>
                </a:solidFill>
                <a:latin typeface="Arial"/>
              </a:rPr>
              <a:t>sca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s there a formula or set of rules to making a truly good ghost st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hat is your favorite ghost st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n you remember any good ghost sto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hat is the difference between a ghost story and an urban lege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mpfire tim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8:23:58Z</dcterms:created>
  <dc:creator>Miranda</dc:creator>
  <dc:description/>
  <dc:language>en-US</dc:language>
  <cp:lastModifiedBy>Miranda</cp:lastModifiedBy>
  <dcterms:modified xsi:type="dcterms:W3CDTF">2009-10-21T05:26:09Z</dcterms:modified>
  <cp:revision>3</cp:revision>
  <dc:subject/>
  <dc:title>Slide 1</dc:title>
</cp:coreProperties>
</file>